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.wmf" ContentType="image/x-wmf"/>
  <Override PartName="/ppt/media/image24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004-7301-4040-912E-67194590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C01-98E1-41FE-AFFA-3D5BA799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787-0162-48B3-9EBA-F15D3682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AD0-BB51-4356-B1FF-2C0C8C3A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947E-FAD8-4339-8B09-3383A0D1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85AC-52A2-4F1C-A9C5-5025568D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3851-9E47-421E-91DF-94668598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B06A-4F09-4F50-929B-99AA298D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D310-DEE7-4F49-B3C7-CD64271C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8F90-DCA3-4EAF-B9C5-A4B199A9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033F-17B7-400F-B9A0-3E217D5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C9E-2F76-49B8-A9A7-7E876517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2136-5543-4F5A-8856-1AFB500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4C2A-6480-407E-A1B7-B722060F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5768-42EE-4487-95BA-FBF7C2ED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2703-25B2-4651-BDF6-B356A21E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4B77-A1EA-45CF-96E8-F80916D7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3C2-76F4-4353-93CE-2F6DB78D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355-9872-48D4-8BC5-4D7E84D6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BDB-A531-498F-9EA8-134D23E5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499-AD93-45D6-9E13-DD0C9E35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89A-7534-44F7-8DCF-990079B0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A82-A5A1-4473-9C07-733B3663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F61-F71E-4DD4-8F8E-A7E36E97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DA66-DC01-4D99-816B-0AC1FE4C39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952A-D3D5-4C13-B485-CA38B046C4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9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clear Phy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convenient to us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ified mass units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, to express ma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u = 1.660 559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2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definition that the mass of one atom of C-12 is exactly 12 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ss can also be expressed in MeV/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m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u = 931.494 M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mmary of Mas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2017800"/>
          <a:ext cx="8269200" cy="4235400"/>
        </p:xfrm>
        <a:graphic>
          <a:graphicData uri="http://schemas.openxmlformats.org/drawingml/2006/table">
            <a:tbl>
              <a:tblPr/>
              <a:tblGrid>
                <a:gridCol w="1752480"/>
                <a:gridCol w="2819520"/>
                <a:gridCol w="2173320"/>
                <a:gridCol w="15238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V/c</a:t>
                      </a:r>
                      <a:r>
                        <a:rPr b="1" i="1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726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72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8.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750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86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9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109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486x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Size of the Nucleu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4151160"/>
            <a:ext cx="8574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investigated by Rutherford in scattering experi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found an expression for how close an alpha particle moving toward the nucleus can come before being turned around by the Coulomb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KE of the particle must be completely converted to 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81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ze of the Nucleu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 gives an upper limit for the size of the nucl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therford determined th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gold, he found d = 3.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ilver, he found d = 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h small lengths are often expressed i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emtomete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ere 1 fm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alled a fer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58880" y="3352680"/>
          <a:ext cx="186552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3352680"/>
                    <a:ext cx="186552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ze of Nucleus, Curr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the time of Rutherford, many other experiments have conclud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nuclei are approximately spher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erage radius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1.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1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5120" y="2224080"/>
            <a:ext cx="3809880" cy="370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2209680" y="4876920"/>
          <a:ext cx="15512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4876920"/>
                    <a:ext cx="1551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 of Nucle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volume of the nucleus (assumed to be spherical) is directly proportional to the total number of nucle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suggests th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ll nuclei ha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early the same den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cleons combine to form a nucleus as though they were tightly packed sphe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ria Goeppert-May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06 – 197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t known for her development of shell model of the nucl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d Nobel Prize in 196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2681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Stabil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very large repulsive electrostatic forces between prot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forces should cause the nucleus to fly ap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uclei are stable because of the presence of another, short-range force,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uclear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n attractive force that acts between all nuclear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clear attractive force is stronger than the Coulomb repulsive force at the short ranges within the nucle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Stabilit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 nuclei are most stable if N =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vy nuclei are most stable when   N &gt;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the number of protons increase, the Coulomb force increases and so more nucleons are needed to keep the nucleus s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uclei are stable when Z &gt; 8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517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ind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otal energy of the bound system (the nucleus) is less than the combined energy of the separated nucle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difference in energy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inding ener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nucl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an be thought of as the amount of energy you need to add to the nucleus to break it apart into separated protons and neut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Milestones in the Development of Nuclear Physics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896 – the birth of nuclear phy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querel discovered radioactivity in uranium compo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therford showed the radiation had three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pha  (He nucleu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a (elect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mma (high-energy phot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inding Energy per Nucle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81080" y="1978200"/>
            <a:ext cx="579132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inding Energy Not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pt for light nuclei, the binding energy is about 8 MeV per nucle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ve peaks in the vicinity of A = 6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clei with mass numbers greater than or less than 60 are not as strongly bound as those near the middle of the periodic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ve is slowly varying at A &gt; 40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uggests that the nuclear force satu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rticular nucleon can interact with only a limited number of other nucle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rie Curi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810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67 – 193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ed new radioactive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d Nobel Prize in physics in 19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bel Prize in Chemistry in 19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18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oacti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adioactiv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spontaneous emission of radi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eriments suggested that radioactivity was the result of the decay, or disintegration, of unstable nucle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oactivity – Types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types of radiation can be emit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rticles are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 nucl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a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rticles are either electrons or positr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ositron is th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ntipartic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electr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similar to the electron except its charge is +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mma r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rays” are high energy phot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tinguishing Types of 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adioactive beam is directed into a region with a magnetic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amma particles carry no charge and they are not defl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lpha particles are deflected up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a particles are deflected down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ositron would be deflected upw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95680" y="1778040"/>
            <a:ext cx="456912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enetrating Ability of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pha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ely penetrate a piece of pa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ta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penetrate a few mm of alumin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penetrate several cm of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Decay Consta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umber of particles that decay in a given time is proportional to the total number of particles in a radioactive s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N = -λ N Δ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λ is 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decay const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 and determines the rate at which the material will dec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decay r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activ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, R, of a sample is defined as the number of decays per seco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165400" y="5688000"/>
          <a:ext cx="222408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5688000"/>
                    <a:ext cx="222408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cay Cur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cay curve follows the eq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=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λ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half-lif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is also a useful param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The half-life is defined as the time it takes for half of any given number of radioactive nuclei to dec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261040" y="1905120"/>
            <a:ext cx="3109680" cy="484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2057400" y="5638680"/>
          <a:ext cx="237348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638680"/>
                    <a:ext cx="23734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unit of activity, R,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urie, 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Ci = 3.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cays/seco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I unit of activity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ecquerel, B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Bq = 1 decay / seco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fore, 1 Ci = 3.7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q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commonly used units of activity are the mCi and the µ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Mileston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911 Rutherford, Geiger and Marsden performed scattering experimen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blished the point mass nature of the nucle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uclear for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was a new type of fo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919 Rutherford and coworkers first observed nuclear reactions in which naturally occurring alpha particles bombarded nitrogen nuclei to produce oxyg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lpha Dec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nucleus emits an alpha particle it loses two protons and two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 decreases by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 decreases by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ecreases by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bolic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rent nucle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aughter nucle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86200" y="4191120"/>
                <a:ext cx="2895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Y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lpha Decay –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ay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2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lf life for this decay is 1600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ss mass is converted into kinetic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mentum of the two particles is equal and oppo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523880" y="2514600"/>
                <a:ext cx="2984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898880" y="2057400"/>
            <a:ext cx="4168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cay – General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one element changes into another element, the proces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ontaneous dec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ansmu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m of the mass numbers, A, must be the same on both sides of th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m of the atomic numbers, Z, must be the same on both sides of th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mass-energy and conservation of momentum must h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ta Dec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uring beta decay, the daughter nucleus has the same number of nucleons as the parent, but the atomic number is changed by 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mbolicall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133720" y="4800600"/>
                <a:ext cx="2577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X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Pr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X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ta Deca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mission of the electron is from the nucle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ucleus contains protons and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occurs when a neutron is transformed into a proton and an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ergy must be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ta Decay – Electron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ergy released in the decay process should almost all go to kinetic energy of the electron (K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s showed that few electrons had this amount of kinetic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145120" y="2343240"/>
            <a:ext cx="38098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utrino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ccount for this “missing” energy, in 1930 Pauli proposed the existence of another parti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rico Fermi later named this particle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eutri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ties of the neutri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ro electrical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s much smaller than the electron, probably not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in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weak interaction with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ta Decay – Completed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mbol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symbol for the neutr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symbol for the antineutr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ummarize, in beta decay, the following pairs of particles are emit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lectron and an antineutr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ositron and a neutr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905120" y="2590920"/>
                <a:ext cx="27432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X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Pr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X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81080" y="4191120"/>
            <a:ext cx="27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mma Dec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mma rays are given off when an excited nucleus “falls” to a lower energy st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ilar to the process of electron “jumps” to lower energy states and giving off phot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hotons are called gamma rays, very high energy relative to ligh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xcited nuclear states result from “jumps” made by a proton or neutr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xcited nuclear states may be the result of violent collision or more likely of an alpha or beta e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mma Decay –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 of a decay sequ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rst decay is a beta e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cond step is a gamma e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* indicates the Carbon nucleus is in an excited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mma emission doesn’t change either A or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286000" y="3276720"/>
                <a:ext cx="29210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5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B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ilestone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32 Cockcroft and Walton first used artificially accelerated protons to produce nuclear re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32 Chadwick discovered the neu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33 the Curies discovered artificial radio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38 Hahn and Strassman discovered nuclear f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2 Fermi and collaborators achieved the first controlled nuclear fission rea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rico Ferm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01 – 195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d transuranic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contrib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ry of beta dec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e-electron theory of met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’s first fission reactor (194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bel Prize in 193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146560" y="1828800"/>
            <a:ext cx="369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ses of Radioacti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bon D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a decay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is used to date organic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tio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to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i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oke det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ization type smoke detectors use a radioactive source to ionize the air in a cha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oltage and current are maintain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smoke enters the chamber, the current is decreased and the alarm sou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Uses of Radioacti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on pol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on is an inert, gaseous element associated with the decay of rad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present in uranium mines and in certain types of rocks, bricks, etc that may be used in home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also come from the ground it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atural Radioacti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cation of nucl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stable nuclei found in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 rise 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atural radioa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clei produced in the laboratory through nuclear re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hibi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rtificial radioa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series of natural radioactivity ex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n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o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able 29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cay Seri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 of </a:t>
            </a:r>
            <a:r>
              <a:rPr b="0" lang="en-US" sz="4400" spc="-1" strike="noStrike" baseline="30000">
                <a:solidFill>
                  <a:srgbClr val="333399"/>
                </a:solidFill>
                <a:latin typeface="Verdana"/>
              </a:rPr>
              <a:t>232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starts with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es through a series of alpha and beta dec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s with a stable isotope of lead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0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7494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Reac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ucture of nuclei can be changed by bombarding them with energetic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ng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uclear re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with nuclear decays, the atomic numbers and mass numbers must balance on both sides of the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Reactions –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pha particle colliding with nitroge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lancing the equation allows for the identification of 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 the reaction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057400" y="3048120"/>
          <a:ext cx="39625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048120"/>
                    <a:ext cx="39625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286000" y="4724280"/>
          <a:ext cx="34034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724280"/>
                    <a:ext cx="34034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133720" y="5867280"/>
          <a:ext cx="4267080" cy="6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867280"/>
                    <a:ext cx="42670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 Valu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y must also be conserved in nuclear rea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ergy required to balance a nuclear reaction is called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Q valu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the re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xothermic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is a mass “loss” in the re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is a release of ener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is posi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ndothermic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is a “gain” of mass in the re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ergy is needed, in the form of kinetic energy of the incoming partic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is negativ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reshold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onserve both momentum and energy, incoming particles must have a minimum amount of kinetic energy,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reshold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is the mass of the incoming 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is the mass of the target 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energy is less than this amount, the reaction cannot occ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962000" y="3552840"/>
          <a:ext cx="316404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3552840"/>
                    <a:ext cx="31640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 Damage in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absorbed by matter can cause d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gree and type of damage depend on many fa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 and energy of the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ies of the absorbing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damage in biological organisms is primarily due to ionization effects in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ization disrupts the normal functioning of th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rnest Rutherfor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71 – 193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y of atoms being broken ap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ied radio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bel prize in 19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1855800"/>
            <a:ext cx="3375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Damag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omatic dam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radiation damage to any cells except reproductive 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lead to cancer at high radiation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seriously alter the characteristics of specific org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enetic dam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ffects only reproductive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lead to defective offsp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Radiation Expo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oentg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[R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amount of ionizing radiation that will produce 2.0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 pairs in 1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ir under standard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amount of radiation that deposits 8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 of energy into 1 kg of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i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sorb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amount of radiation that deposits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 of energy into 1 kg of absorbing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Un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B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ati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ologic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ct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of rad of x-radiation or gamma radiation that produces the same biological damage as 1 rad of the radiation being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ounts for type of particle which the rad itself does n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entg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valent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d as the product of the dose in rad and the RBE fa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se in rem = dose in rad X R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 Leve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ural sources – rocks and soil, cosmic 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ground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0.13 rem/y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per limit suggested by US gover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 rem/y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ludes background and medical expos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pa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rem/yr for whole-body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body parts can withstand higher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gestion or inhalation is most dangero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has been used to sterilize medical equi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to destroy bacteria, worms and insects in fo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ne, cartilage, and skin used in graphs is often irradiated before grafting to reduce the chances of 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Radia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oactive particles can be used to trace chemicals participating in various re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3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to test thyroid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T sc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mpu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i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mograp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duces pictures with greater clarity and detail than traditional x-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Radiation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net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onan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nucleus having a magnetic moment is placed in an external magnetic field, its moment processes about the magnetic field with a frequency that is proportional to the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tions between energy states can be detected electron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 Dete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476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Geiger coun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the most common form of device used to detect radi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uses the ionization of a medium as the detection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gamma ray or particle enters the thin window, the gas is ion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leased electrons trigger a current pu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is detected and triggers a counter or speak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39621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tector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miconductor Diode Det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verse biased p-n j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particle passes through the junction, a brief pulse of current is created and meas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ntillation coun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a solid or liquid material whose atoms are easily excited by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xcited atoms emit visible radiation as they return to their ground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hotomultipli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photons can be converted into an electrical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tector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k det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ous devices used to view the tracks or paths of charged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otographic emul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plest track dete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 particles ionize the emulsion 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the emulsion is developed, the track becomes visi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ud cha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ains a gas cooled to just below its condensation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ons serve as centers for condens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ticles ionize the gas along their pa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ck can be viewed and photograph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Properties of Nucle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nuclei are composed of protons and neutr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ception is ordinary hydrogen with just a prot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tomic numb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Z, equals the number of protons in the nucle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eutron numb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N, is the number of neutrons in the nucle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ass numb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A, is the number of nucleons in the nucle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= Z + 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cleon is a generic term used to refer to either a proton or a neutr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ass number is not the same as the ma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tectors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k detectors, co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bble Cha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a liquid near its boiling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ns produced by incoming particles leave tracks of bub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racks can be photograph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re Cha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thousands of closely spaced parallel w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wires collect electrons created by the passing ionizing parti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cond grid allows the position of the particle to be determi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provide electronic readout to a compu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 fu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. Concepts, 6,8,10,1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1,5,6,7,9,15,18,20,25,26,27,31,33,34,38,39,40,42,4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ymbolis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bo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is the chemical symbol of the 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number is 2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omic number is 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13 prot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14 (27 – 13) neutr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Z may be omitted since the element can be used to determine 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76720" y="1752480"/>
                <a:ext cx="121896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19320" y="3886200"/>
                <a:ext cx="1347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Propert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uclei of all atoms of a particular element must contain the same number of prot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y may contain varying numbers of neutr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sotop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n element have the same Z but differing N and A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733920" y="5486400"/>
          <a:ext cx="3768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486400"/>
                    <a:ext cx="3768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g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oton has a single positive charge, +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has a single negative charge, -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utron has no char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s it difficult to det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 = 1.602 177 3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-19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9:35:57Z</dcterms:created>
  <dc:creator>Marilyn Akins</dc:creator>
  <dc:description/>
  <dc:language>en-US</dc:language>
  <cp:lastModifiedBy>DCPS</cp:lastModifiedBy>
  <dcterms:modified xsi:type="dcterms:W3CDTF">2007-04-13T18:48:08Z</dcterms:modified>
  <cp:revision>28</cp:revision>
  <dc:subject/>
  <dc:title>Chapter 29</dc:title>
</cp:coreProperties>
</file>